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865-E5E3-4A20-B492-8CEC5E06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092-2155-4979-BD5E-C6D0022B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ED4-B692-4770-9BB5-F54CC246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740-3BA7-4D5D-84B0-D8663CDE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1E8-0546-46B2-B4BF-28B2A031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833-4D2B-4803-AD44-19C9A5CB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A79-B175-48DE-B2DF-F7B27F90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D17-225D-4D10-828A-CF33AFB9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BD9-7855-4127-BCC2-C852E8AB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A81-2DA2-4C5F-995B-7D448BDA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437-5F30-421B-8478-AEADA277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CA0-D458-485B-8B1F-33FFFC25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EA4E-FFC5-4069-8B5E-26246A200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643040"/>
            <a:ext cx="9144000" cy="1481040"/>
            <a:chOff x="0" y="1643040"/>
            <a:chExt cx="9144000" cy="1481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66303" t="30968" r="2652" b="0"/>
            <a:stretch/>
          </p:blipFill>
          <p:spPr>
            <a:xfrm>
              <a:off x="0" y="1654200"/>
              <a:ext cx="3089160" cy="146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2971800" y="1643040"/>
              <a:ext cx="6172200" cy="1481040"/>
              <a:chOff x="2971800" y="1643040"/>
              <a:chExt cx="6172200" cy="1481040"/>
            </a:xfrm>
          </p:grpSpPr>
          <p:sp>
            <p:nvSpPr>
              <p:cNvPr id="44" name=""/>
              <p:cNvSpPr/>
              <p:nvPr/>
            </p:nvSpPr>
            <p:spPr>
              <a:xfrm>
                <a:off x="3048120" y="1643040"/>
                <a:ext cx="6095880" cy="1481040"/>
              </a:xfrm>
              <a:prstGeom prst="rect">
                <a:avLst/>
              </a:prstGeom>
              <a:solidFill>
                <a:srgbClr val="005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71800" y="1728720"/>
                <a:ext cx="617220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TMO 436a/536a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Spring 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undamentals of the Atmospheric Scien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WF 1:00 pm – 1:50 pm.  PAS 2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6:37:13Z</dcterms:created>
  <dc:creator>ritchie</dc:creator>
  <dc:description/>
  <dc:language>en-US</dc:language>
  <cp:lastModifiedBy>ritchie</cp:lastModifiedBy>
  <dcterms:modified xsi:type="dcterms:W3CDTF">2008-01-15T16:37:13Z</dcterms:modified>
  <cp:revision>1</cp:revision>
  <dc:subject/>
  <dc:title>Slide 1</dc:title>
</cp:coreProperties>
</file>