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E82-F47D-4633-9D09-6AC93ED2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3C1-EDC9-4881-957B-A3E5FD5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BFE-068E-4A64-AD2B-06A46716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8FF-3FF2-426C-A776-5F75093B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135-72EB-4713-8199-FACBC9C6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1C9-70A5-4757-9F2A-79EE31D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1B0-28B1-4399-8207-C42AD527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053-CBB7-4F31-8DB9-CA4F93B1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310-D078-4CAF-B599-578A9C4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FF2-BF4F-460B-8F2F-6BADE33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CD6-7FBE-4739-AAF3-CD875BF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8B4-7AEC-44A7-B3BE-BE21A74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B5F4-BA20-425A-8622-22E0B2E39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643040"/>
            <a:ext cx="9144000" cy="1481040"/>
            <a:chOff x="0" y="1643040"/>
            <a:chExt cx="9144000" cy="1481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6303" t="30968" r="2652" b="0"/>
            <a:stretch/>
          </p:blipFill>
          <p:spPr>
            <a:xfrm>
              <a:off x="0" y="1654200"/>
              <a:ext cx="3089160" cy="146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2971800" y="1643040"/>
              <a:ext cx="6172200" cy="1481040"/>
              <a:chOff x="2971800" y="1643040"/>
              <a:chExt cx="6172200" cy="1481040"/>
            </a:xfrm>
          </p:grpSpPr>
          <p:sp>
            <p:nvSpPr>
              <p:cNvPr id="44" name=""/>
              <p:cNvSpPr/>
              <p:nvPr/>
            </p:nvSpPr>
            <p:spPr>
              <a:xfrm>
                <a:off x="3048120" y="1643040"/>
                <a:ext cx="6095880" cy="1481040"/>
              </a:xfrm>
              <a:prstGeom prst="rect">
                <a:avLst/>
              </a:prstGeom>
              <a:solidFill>
                <a:srgbClr val="005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71800" y="1728720"/>
                <a:ext cx="6172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TMO 436a/536a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Spring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undamentals of the Atmospheric Scien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WF 1:00 pm – 1:50 pm.  PAS 2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37:13Z</dcterms:created>
  <dc:creator>ritchie</dc:creator>
  <dc:description/>
  <dc:language>en-US</dc:language>
  <cp:lastModifiedBy>ritchie</cp:lastModifiedBy>
  <dcterms:modified xsi:type="dcterms:W3CDTF">2008-01-15T16:37:13Z</dcterms:modified>
  <cp:revision>1</cp:revision>
  <dc:subject/>
  <dc:title>Slide 1</dc:title>
</cp:coreProperties>
</file>