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8E1-1124-429D-A1E2-9AA4B57A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D29-C740-4381-9AB9-50082C9C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102-242B-415B-B4A9-CF8B29A7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35F-67FB-43DE-8694-F9F64968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92E-2380-4791-A10F-BE070A3D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D55-852B-47E1-8955-AA3D028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EEC-5C64-4394-B070-2F8285B8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02C-6AC1-4B6F-AEDF-9F4EC5D2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04F-5A59-4908-89C3-D9559C90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464-1409-409B-BC1B-54C1C62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A2E-1938-4C5F-BC0B-433774B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D5A-57EB-43F2-9B88-338ABC2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132D-BBA6-42A4-93BF-3999AF5A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643040"/>
            <a:ext cx="9144000" cy="1481040"/>
            <a:chOff x="0" y="1643040"/>
            <a:chExt cx="9144000" cy="1481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66303" t="30968" r="2652" b="0"/>
            <a:stretch/>
          </p:blipFill>
          <p:spPr>
            <a:xfrm>
              <a:off x="0" y="1654200"/>
              <a:ext cx="3089160" cy="146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2971800" y="1643040"/>
              <a:ext cx="6172200" cy="1481040"/>
              <a:chOff x="2971800" y="1643040"/>
              <a:chExt cx="6172200" cy="1481040"/>
            </a:xfrm>
          </p:grpSpPr>
          <p:sp>
            <p:nvSpPr>
              <p:cNvPr id="44" name=""/>
              <p:cNvSpPr/>
              <p:nvPr/>
            </p:nvSpPr>
            <p:spPr>
              <a:xfrm>
                <a:off x="3048120" y="1643040"/>
                <a:ext cx="6095880" cy="1481040"/>
              </a:xfrm>
              <a:prstGeom prst="rect">
                <a:avLst/>
              </a:prstGeom>
              <a:solidFill>
                <a:srgbClr val="005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71800" y="1728720"/>
                <a:ext cx="61722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TMO 436a/536a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Spring 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undamentals of the Atmospheric Scien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WF 1:00 pm – 1:50 pm.  PAS 2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37:13Z</dcterms:created>
  <dc:creator>ritchie</dc:creator>
  <dc:description/>
  <dc:language>en-US</dc:language>
  <cp:lastModifiedBy>ritchie</cp:lastModifiedBy>
  <dcterms:modified xsi:type="dcterms:W3CDTF">2008-01-15T16:37:13Z</dcterms:modified>
  <cp:revision>1</cp:revision>
  <dc:subject/>
  <dc:title>Slide 1</dc:title>
</cp:coreProperties>
</file>